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2B22-BD4A-4774-B035-6B73F62C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B36C-4025-4C0F-9369-36C55D4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4824-8D60-43CF-9DC8-B31C2552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7B1C-66E9-41C0-8C3F-9405200C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AE2-4B33-4ABD-91C4-351C266D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F04-E0F5-4C4E-B984-AB62324B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F29F-6DFE-4B09-AA63-B30E8069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1EFD-2EFA-4D13-B3A9-A6E22430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9BC9-653F-47D1-97BE-1C9590E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6FCB-4E1C-4133-B0EC-F278E47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F3C-271B-4852-97F9-AD9E2E5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DCA5-8CC9-4040-9D8B-C3E2326B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F85-1F7B-45C9-8057-22AADDA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DC1-EC6C-4164-A671-B22996F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E75-7CFE-4046-8614-F5777B72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1BA-EF53-42F6-B8F1-8E0D3577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4BD-8A66-4E17-9538-5ED26A7C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F1CA-F263-42E4-B118-E7C3D19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0B22-AF22-4AA2-AC9E-C8FC088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245A-ED31-4BDC-A7E8-B535765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66DF-219D-4A61-A4A4-23D72F7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FE94-1321-44DD-AE0A-2FA1839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5AE4-2774-4DD9-84A0-9B29DC6A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5DD6-2D93-4C67-883D-213A097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2F08-5028-4C09-B6D1-26EC4F6415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93F-225B-4B1B-8274-845E03726C3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105920"/>
            <a:ext cx="892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3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зная, жив е Господ м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готвил е и място м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рона славна дава Т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ек, в кръвта Му що е спас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218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не ще се скитам в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ълпата от Христа дале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 сал ще чакам с вяра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ова на моя славен Спас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94580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На Него се надявам аз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ой нежно кани ме сега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аз чувам благия Му глас: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"Ела, да бъдеш с Мен всегда!"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не ще се скитам в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ълпата от Христа дале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 сал ще чакам с вяра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ова на моя славен Спас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скоро Той, аз зн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времето не е далеч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ще съм горе т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ея с ангели наве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не ще се скитам в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ълпата от Христа дале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А сал ще чакам с вяра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ова на моя славен Спас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6-04T16:11:53Z</dcterms:modified>
  <cp:revision>59</cp:revision>
  <dc:subject/>
  <dc:title>Slide 1</dc:title>
</cp:coreProperties>
</file>